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8D1-5250-456C-8346-5BFE59CE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D430-6FFC-4642-9FB0-A781C9A9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E68AA-A907-43F1-BFDE-B41EE4A3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0BA7B-BA28-40CE-BBBA-084019BA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B9152-FB5C-4CCF-8EA3-78CA8885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90E6F-B50A-4896-9D5D-55CF5E79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2DD05-42D0-4D55-912A-5BD702CE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9C09B-0778-4F79-968C-F19F4877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79030-2E3A-4CDC-B3F8-C51BA6A7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25584-7BB2-4795-AAEF-FD83BF87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B2BF8-5630-4697-8F09-1B3E9734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AE451-4626-4425-B199-FBF895C4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BF6-DF48-4DDB-8123-06040B06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52133-0153-46A3-A726-7C5917EC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0FCFF-2F57-4862-85D6-EA98720E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ED721-625C-4CA8-B0B4-97717EA3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FCA54-BCFD-4F41-85C3-45CDCC2A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D6F45-F319-4E2E-9113-25ED6AA0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A4E40-6B66-4F30-8DE3-E3C783F8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8ABAC-8599-452E-904E-04C57EBA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5DC18-09D9-481F-8F42-B2DD4634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9617D-828B-49EC-B986-19408E1D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4384B-B811-4532-B849-E10A57BE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89F-D9F7-4175-AD9C-99EA386A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B417C-F6C7-4AC3-98C2-C9AB3795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C29F1D-989C-4DAD-9E7C-8EB7EC97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7E5740-C8D5-45B0-93B0-04576126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819FD0-4A86-47F9-A7BD-65F84421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FBE849-BFB1-4F56-9D77-2E2A25B4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67FE57-60F6-4EC5-B49C-B911B7E6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77A00A-0390-4C04-AF0F-01BB611A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8A59AA-AF6C-4F19-8C72-C1DBE1FD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D758D3-0B75-4591-915B-BC86FA44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8B3754-5498-4F5D-B80F-433CD434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8009-00D8-4866-AAD4-764F8468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CE531E-ADCF-42E9-8E26-136F932D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F331DA-EEE0-4FDC-89CD-52414CA1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EF535D-1EB2-42A7-AB9D-74106862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514B0-2D10-493F-9855-1C07E050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DA0CA-FD61-4700-AB1C-07AB1AC5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52F16-1200-4CFC-9A45-B0B482A8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612F3-F9CA-4500-B5DF-E2DB9DA1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AE414-025E-4194-AA81-A32BD13E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E7059-EF98-4837-B973-BD7C8EB3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9B3E6-8669-4E11-BC49-1A60A314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7539-97EB-48EA-AA1A-ECDF8FA0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3D321-0F44-4D93-B6F6-3BE4E85D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D4018-C8AA-4B12-9A5F-AFBA6692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46C44-1561-4928-AD3B-455BCAB8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F00EE-B000-4A9B-8718-FECB0897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4E04D-E3C9-46B9-8FFF-C6FA3854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28B53-350A-4B32-8FAD-25C07F41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C8C27-C706-4C5F-86B5-67C605D4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765E4-67B9-401E-8DB8-5C24B154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F58D3-E96B-4653-AEF6-5432F221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5F636-A05D-4988-AD1A-57A89372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CBAE-A2F1-4159-88F2-182001F9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AE140-3442-4276-B9BF-A3121632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83179-7C84-4581-BC45-F05BDB20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E7A10-A959-4E73-A6AA-D8998BFD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C8CF6-D11C-4456-9CE2-1F912B24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8CCDD-E296-496E-8EAC-0CB7C5E2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50D28-D9A8-495D-90DF-5B7EC980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CE4D0-2C12-4DC3-9A43-A1E83E29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632763-AF21-4113-8AEA-57F69703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A41CB-B4AD-4DDE-94C1-A7CE7C97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C815C-CF2B-492C-B4FC-D6981201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0158-918F-43B2-BD80-46ED02D1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D19A1-CB86-4D1F-8D4B-CF8B79FE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10C40-9F8A-4EE3-99FB-220D798D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50F115-321F-4975-915E-5A9E83BD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6E87B-00C4-4B3B-ADA2-F20EBB34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336E7F-F830-4EE2-8F5D-565B8123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21447-EDAE-4F0D-9384-C712E69C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F7184-03A9-40C8-92DC-B76C3577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11D92-824C-4B8F-AA4A-8F99BF27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7F65FC-D15F-44CB-9084-E6B956F7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DD5BA-D6B5-4B7B-BD56-A09F0F2D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E4A0-3D4F-4BE6-BD6F-E003F5A9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CF894-2821-400E-A57D-276F03B3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BCDAD0-8BC5-4A6B-AE6D-BDD5FF2A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0DDC76-FD8B-4B3C-B1B9-05DC9475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9D76E-4B0C-4C12-BDB7-4F48DCCB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EDF87-6147-4221-836A-619AF564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84C96-B7A3-49D7-819D-8BAD4383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CCD7B-9E8C-4611-8C8A-FC99FDF1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75F267-5246-4806-B71B-A4036F8D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FD0C39-8B28-41BA-B0DA-9D0795E3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4D3320-8E7F-4CC8-8C64-75F2337A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7269-F58D-4D7C-9A40-37045A83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786598-4DB8-438A-A043-45928F2E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EE8E40-4963-4BE1-A5FA-09B8C70F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63E2F1-D31B-466D-81C6-14B2E922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79DFF-C871-43CF-83D1-45D0E7DD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71E0A-F8D0-4519-AFE6-049CA64F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B99E65-1FAC-46ED-A90E-063EB3D1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1761E-8241-462C-B85B-34988216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504A2-6192-4F45-A825-ACBEDA3F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28EB5C-A87C-411B-BBBA-B0A32C9B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A554ED-B549-435B-85C0-F70D8584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7CDD-8304-46A0-B260-5477C181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491C80-FC1B-4A83-A41E-DC164CD2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0AA72A-4486-4EDF-B478-D353C9B1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C68AB-8AE1-4238-9408-260E4088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A90-4C78-4A5D-B1D9-435F8032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752F-D392-4D11-930A-959C33D7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5BE5-D472-4F73-B628-6EED9DD6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5461-36CE-4BBC-843F-498E61A3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2F0E-2F87-4640-BC60-E3D5BEB8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582A-2049-4E9F-AF40-DE4DE944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23377-3E9D-4B2A-A011-1DF7A152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D9E9-A52B-4A2E-94B4-8400A602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82D6D-79D9-4020-B175-7FFB3163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6291-B714-454A-9F38-7AC14E57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0721B-92E0-4E07-A3BF-5BD3228A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C5B-3AD9-4056-B7AC-0792D8E6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C3A58-25DE-4EDF-8CF4-0DF179A7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FA4FE-8E51-463E-9475-87EDF184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6EA2-C49C-4F24-B9C0-B55B7DFD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26667-5949-402F-AF30-53A6D10B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E7A9F-4E47-4BAA-B419-C73B89BF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24CA9-080D-4B55-8C71-35F54CA4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B4224-34BD-477F-8651-757B5C59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343E2-1E47-44E2-BFBB-6D51B05C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8191E-2120-4EA9-AC7F-CA05A83B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C04C4-3A36-4FF9-9A1F-73C0E9D0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E28-5E2B-4D10-ABFF-48D94443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4517C-E724-4750-850F-DE7A55EA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2027F-8E2B-4C56-AA43-57D97177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66FE4-D5E2-446D-821A-CA2E69AB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26EBD-0FB9-427D-9B06-C5DDED49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29DEA-E724-4274-AC87-126D4EC0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AAE98-3C1D-4127-A4AF-418476B6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DA658-25CD-48B5-BC4A-F9641F55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A09DD-BE76-4BA9-8D01-2C5F8E80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D8DD8-6701-4A8D-B5CA-631614DB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80FA4-CFF5-411D-B272-BBB1C959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4BC-5989-47B1-8563-54BBC62D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DDF72-FBA7-4F2D-9560-F7CD6F7E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CF419-0E98-4C3B-8D9A-BECBAE4B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0FF51-8947-48F1-ADBD-2B123CBB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DE512-096C-46E5-917F-8985ECB6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F6D46-3926-40A1-8B2A-36A889B9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D6FB3-C499-4DE3-9B45-5DB03B36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A910B-ED50-4BA4-A319-5533B36A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DBF87-3199-4390-93A6-F7E4F373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92FDB-D7E5-4E7E-BF24-168EC955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D9674-F26C-49A1-8290-5B53F314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83C-653E-436C-AEB7-629AD023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607C4-105C-40D8-9E1F-6779146C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C486E-ECDB-4169-AC6E-E4AAFE0A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AE28A-320D-4A0E-A3CE-55558594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97A45-95D6-40E4-BCCC-C493948A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50F29-7095-4982-A8B2-002E6EBB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9B95E-323E-4DF2-9D14-2650CA4D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E0A0D-AA96-496F-808C-1E1996DC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97EC8-8DA3-467B-9148-C0001930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14A08-5BCE-48DE-9ECF-FB0732B8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18ABB-C989-4423-A6E4-B6373B18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ECA-50A9-41F8-829A-79DA1E96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8117C-B53F-48EB-8E96-E32A4656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6643E-34F5-4638-941A-2622047B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556A3-D94E-4392-92C4-A7D43DA6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248DB-DB39-4468-828E-69A87679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C189B-D382-40B4-A3AA-813C98BD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AC8FC-CF82-4993-918C-655E7EE1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DC321-27AD-4220-931E-DD34BB47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195F8-C2D8-4C6E-8CCE-F866837F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7AC64-F567-4ED5-BD77-9DB83548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1FE21-BDA1-4593-8264-2D477588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781-5F45-4A19-BEAB-3A6534EC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B10DC-26D5-4EE5-A7B5-6C66444E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DE171-9526-49DD-B8BD-C3855739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0B002-1DB3-4933-9AB7-F6C91177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3B97B-080B-4C1B-BDE7-EE355851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A86A7-349E-4C33-BD30-13DFD7E1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B12D8-031A-4988-90FF-81CFBF8D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D2866-EBB1-4E7B-83AE-AF943456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BFD1C-B6A9-40BE-B968-129B6994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0CE28-A8CF-4BFF-B275-04EE0804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E9A81-7354-4A9A-B676-0653DC80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DC5-F00E-4B11-AA73-D1D8DC62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8E7C3-6600-404A-97A2-B61BB496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27608-C347-4DE4-A7D5-E2A22416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34284-AB4C-4763-AE81-E3B40F03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D3305-927A-4EE6-A0AD-458B55DE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AAFAD-7C3C-409F-ACFC-1BC3E8FC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736AC-CB2E-4F8D-81DE-85E0639D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05362-F610-455F-87F2-7C23CA66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93A1E-5DCF-43EA-8122-F1D49E98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E05D7-7EFB-454D-88A6-8B294D64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EA494-D0B1-46C9-A5BB-F9938618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4750-5CA1-49BE-A45F-598FBBFEF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08AF-4DD8-4161-8D9C-58061A0B40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86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9" name="PlaceHolder 1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3E0A-E314-4123-B3E4-F4D474D46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12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FDA3-9619-48E3-8B9A-8007C0508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7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8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8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8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9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0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0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2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2FC9-5BA3-4C34-BBBB-DE9ED74630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7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7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7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7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8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8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9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9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1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0DC4-7C71-40E4-803F-163B462FC2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0596-8B2D-483F-8CA0-B40F43018F4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7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8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9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0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0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0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0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0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D03B-518A-4BE1-AA7B-55CAAD94E7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66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66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6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67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7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67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2987-FF4F-40DA-B565-865FA585C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30FD-0690-4A0E-9BAB-EF1E7CA962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16CD-A4D4-4F0E-91EB-3C394F4542E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8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4122-67EA-4F4F-9EE2-A5945353DF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8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3D72-DA72-491C-B2E0-B10C1D3DF2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0A76-FFF8-4A5D-B1E5-3E40EDE79E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3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9A7F-E51A-4DF3-BDB7-71A4C88B30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7E22-1070-44AE-B82A-A05CC8E0C2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qnyc.org/" TargetMode="External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qnyc.org/NYC052376/whatisworkshop_new.html" TargetMode="External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Workshop Model: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Optimizing the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Mini-lesso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ri Gr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larisa Konstantinovsk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ucation 702.22 – Fall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O’Connor- Petru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7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ru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ent form to the principal of the Title 1 school where the research will be conduc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ent form to the parents/guardians of the student of inter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veys to parents to obtain additional information about the particip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veys to othe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grade teachers regarding their opinion of the effectiveness of the Workshop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veys to students about their opinion of the Workshop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endix A:  Consent For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al consent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LEASE SIGN AND RETURN TO YOUR CHILD’S TEACH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mission to participate in the thesis pap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ld’s name 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________  I give my permission for my child to participate in the anonym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sis/research paper over the course of the school year of 200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ent/Guardian Signature: ____________________  Date: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ncipal Consent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mission granted:  _________________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endix B:  Surve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 Survey to parents/guardia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prefer that my child receives more direct reading instruction during school hour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Dis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 Survey to teach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udents will score higher on standardized tests if they receive more direct reading instruc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Dis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 Survey to stude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like reading independently in schoo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Dis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2" name="" descr=""/>
          <p:cNvPicPr/>
          <p:nvPr/>
        </p:nvPicPr>
        <p:blipFill>
          <a:blip r:embed="rId1"/>
          <a:stretch/>
        </p:blipFill>
        <p:spPr>
          <a:xfrm>
            <a:off x="3048120" y="3733920"/>
            <a:ext cx="2971800" cy="2133360"/>
          </a:xfrm>
          <a:prstGeom prst="rect">
            <a:avLst/>
          </a:prstGeom>
          <a:ln w="0">
            <a:noFill/>
          </a:ln>
        </p:spPr>
      </p:pic>
      <p:sp>
        <p:nvSpPr>
          <p:cNvPr id="1743" name=""/>
          <p:cNvSpPr/>
          <p:nvPr/>
        </p:nvSpPr>
        <p:spPr>
          <a:xfrm>
            <a:off x="838080" y="91440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TC or not to TC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at is the question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5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able of Cont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oduc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Statement of the Probl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Review of Related Lit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Statement of the Hypothe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Participants (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Instru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end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Appendix A:  Consent Fo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Appendix B:  Surve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atement of the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  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ue to grades falling and illiteracy rising, this research is based primarily on the “Workshop Model”; more exact the reading and writing workshop as described in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www.tqnyc.or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“The workshop model intends for the students to learn reading and writing skills through much participation amongst themselves and their peers”, which follows whole-word learning and is in direct opposition of the phonics methodolog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Teacher’s College format of the model itself is a scripted and timed method of teaching or facilitating learning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ach reading and writing workshop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mu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consist of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Teaching Point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Address the standard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Connection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Activate prior knowledge and focus attention on the lesson for 1 minu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Mini-lesson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Demonstrates the teaching point as if you were working independently for 10-15 minut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Link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Review and clarify key points before sending them to work independently or in a group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Active Engagement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Students work independently or in groups while you are conferring or assessing individual or small groups of student readers or writers for 20-30 minutes based on your mini-less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Mid-Workshop Interruptio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:  Remind the students of the Teaching Point and compliment for no more than 1 minu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Share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Two or three students get to share what they wrote or read, linked to the day's lesson for 1- 2 minute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Closure / Link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Review and clarify key points for 1 minu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Homework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Should be based on the teaching point of the day's less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4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urpose of the The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ough this research the hope is to find out if such a rigorous structure of teaching is most beneficial for students or if more could be learned and retained without a time limitation and other restraint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Bibliograp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 Model.  (n.d.).  Retrieved September 30, 2008, from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tqnyc.org/NYC052376/whatisworkshop_new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s of the Workshop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teachers the opportunity to model skill or strategy (Adriana, 2006) (Robb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al mini-lesson allows teachers and students to succeed (Popham, 197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taught using the Workshop Model are more likely to read for pleasure (Lause,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izes the class for each student (Carmicha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for conferences with students (Furr, 20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s of the Workshop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per a teachers contract, they cannot be excessively micromanaged (Callaci, 200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 should decide how to teach his/her own students (Krasner, 197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 need to have the freedom to modify lessons and activities as needed (Lieberman, 2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atement of the Hypothesi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Workshop Model’s rigorous time schedule will enhance the discipline to provide the optimum opportunity for third and fifth grade readers and writers (students) in a Title 1 school to gain knowledge and higher test scores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ipa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ty-eight third and fifth grade students in a Title 1 school in Brooklyn, New Yor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20:37:10Z</dcterms:created>
  <dc:creator>0e-17</dc:creator>
  <dc:description/>
  <dc:language>en-US</dc:language>
  <cp:lastModifiedBy> Lori M Grabel</cp:lastModifiedBy>
  <dcterms:modified xsi:type="dcterms:W3CDTF">2008-12-04T00:28:27Z</dcterms:modified>
  <cp:revision>36</cp:revision>
  <dc:subject/>
  <dc:title>The Workshop Model: Optimizing the Mini-lesson</dc:title>
</cp:coreProperties>
</file>